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3A0-6EB5-4AE2-8096-573661EE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98E-19BF-4BB9-B18D-E65C20DF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6BE-8988-4DF3-B647-F7F75B76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55D-88EA-4B8B-8E95-B3E881E6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480-6039-4B58-9A7F-9F1846B8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10D2-E9F2-4B6B-929A-3F624CF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73E7-3D5F-4211-9BC1-9D04908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3123-4B02-4DE8-9C8A-3687D50A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B1D-BCFD-4C20-8BC7-28AA50C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988-D45B-4397-8B2C-3AEEA835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22F-BDB7-4B16-A43D-1262C95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2B7-C0DA-4BAB-B149-2358BFAC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3E1A-9F61-4FDD-93FA-2A02CD4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C72-8773-4FAE-8942-9EEC481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1FE7-7E91-48D6-A199-93CBF97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2D87-49D4-4EE4-8C64-B2A6DE9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3A80-CFBE-4693-89CE-379F0BF8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9B2-C8E2-4182-9F95-9594D754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7F3-4B2F-4BD2-A67D-7F14E55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81B-5E06-47D9-8A3C-6125E83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E66-454B-4FE5-887B-1F25DF6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B61-AA18-4901-A9B5-5F24CC0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5DD-8AE3-4689-8238-C4515A5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2BA-A5BA-4DB4-894F-8857C5B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06F-B151-44C4-BA6F-7334B780C31B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6B3-A6CF-41B0-A788-30E9C279A4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D81-59CA-4A85-A6D6-3A7E75C25CBA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47CC-00C3-4C96-AEA6-58EE51C977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800000"/>
                </a:solidFill>
                <a:latin typeface="Comic Sans MS"/>
              </a:rPr>
              <a:t>AZIENDA OSPEDALIERA                                 </a:t>
            </a:r>
            <a:br>
              <a:rPr sz="1100"/>
            </a:br>
            <a:r>
              <a:rPr b="1" lang="it-IT" sz="1100" spc="-1" strike="noStrike">
                <a:solidFill>
                  <a:srgbClr val="800000"/>
                </a:solidFill>
                <a:latin typeface="Comic Sans MS"/>
              </a:rPr>
              <a:t>“GUIDO SALVINI”</a:t>
            </a:r>
            <a:br>
              <a:rPr sz="1100"/>
            </a:br>
            <a:r>
              <a:rPr b="1" lang="it-IT" sz="1100" spc="-1" strike="noStrike">
                <a:solidFill>
                  <a:srgbClr val="800000"/>
                </a:solidFill>
                <a:latin typeface="Comic Sans MS"/>
              </a:rPr>
              <a:t>GARBAGNATE MILANESE</a:t>
            </a:r>
            <a:br>
              <a:rPr sz="1100"/>
            </a:br>
            <a:r>
              <a:rPr b="1" lang="it-IT" sz="1100" spc="-1" strike="noStrike">
                <a:solidFill>
                  <a:srgbClr val="e931d7"/>
                </a:solidFill>
                <a:latin typeface="Comic Sans MS"/>
                <a:ea typeface="Times New Roman"/>
              </a:rPr>
              <a:t>                                                                                         </a:t>
            </a:r>
            <a:br>
              <a:rPr sz="1100"/>
            </a:br>
            <a:r>
              <a:rPr b="1" lang="it-IT" sz="1100" spc="-1" strike="noStrike">
                <a:solidFill>
                  <a:srgbClr val="e931d7"/>
                </a:solidFill>
                <a:latin typeface="Comic Sans MS"/>
                <a:ea typeface="Times New Roman"/>
              </a:rPr>
              <a:t> </a:t>
            </a:r>
            <a:br>
              <a:rPr sz="1100"/>
            </a:br>
            <a:r>
              <a:rPr b="1" lang="it-IT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zione Medica</a:t>
            </a: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O.</a:t>
            </a:r>
            <a:r>
              <a:rPr b="1" lang="it-IT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“Caduti Bollatesi” </a:t>
            </a:r>
            <a:br>
              <a:rPr sz="1100"/>
            </a:br>
            <a:r>
              <a:rPr b="1" lang="it-IT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O. “Passirana”</a:t>
            </a:r>
            <a:br>
              <a:rPr sz="1100"/>
            </a:br>
            <a:r>
              <a:rPr b="1" lang="it-IT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l. 02/994305360/204</a:t>
            </a:r>
            <a:br>
              <a:rPr sz="1100"/>
            </a:br>
            <a:r>
              <a:rPr b="1" lang="it-IT" sz="4400" spc="-1" strike="noStrike">
                <a:solidFill>
                  <a:srgbClr val="e931d7"/>
                </a:solidFill>
                <a:latin typeface="Times New Roman"/>
                <a:ea typeface="Times New Roman"/>
              </a:rPr>
              <a:t>C</a:t>
            </a:r>
            <a:r>
              <a:rPr b="1" lang="it-IT" sz="4400" spc="-1" strike="noStrike">
                <a:solidFill>
                  <a:srgbClr val="e931d7"/>
                </a:solidFill>
                <a:latin typeface="Times New Roman"/>
              </a:rPr>
              <a:t>apitolato speciale per la fornitura in noleggio di dispositivi antidecubi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4343400"/>
            <a:ext cx="635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.O. G. Salvini (Capo fila), A.O. Desio e Vimercate, A.O. San Carlo, A.O. Sacco, Ospedale Maggiore, Istituto Nazionale dei Tumori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19E-62CA-414B-8E50-2BB2857A6B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E8C0F0-E3AD-4F88-B4A1-81E0523A2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Il Capitolato rappresenta un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autonomo rapporto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contrattuale tra l’A.O. e la Ditta aggiudicataria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765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La durata è di 4 anni dalla data effettiva di superamento del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periodo di prova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che viene ufficializzato dalla Direzione Sanitaria d’Azienda, sentiti i Direttori di Dipartimento, le Direzione Mediche di Presidio e il SITRA (vedi Valut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7620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Ogni presidio consegnato (compreso il cover) deve possedere la certificazione della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sanificazione e decontaminazione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che dovrà essere svolta: ad ogni rimozione del presidio o su richiesta dell’U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Ogni presidio consegnato deve essere comprensivo di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cover e cover aggiuntivo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e sacco per la dismissione del materasso e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43E-26B8-41E9-A682-CB799FFEEE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9400C-4A0F-4CFA-9936-579AF8861B3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L’U.O. potrà richiedere, in caso di necessità, la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sostituzione del cover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sporco. La ditta contestualmente alla consegna del cover pulito e sanificato, ritirerà il cover sporco da sanificare.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8288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676520"/>
            <a:ext cx="7619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La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consegna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del dispositivo e del cover e cover aggiuntivo deve avvenire entro 12 ore dall’ord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1240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La richiesta/dismissione/trasferimento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, una volta comunicata telefonicamente, va formalizzata  sull’apposita scheda (Allegato 6) che va inviata in copia all’Economato e alla Direzione Medica del Presidio. Solo alla Direzione Medica va consegnata anche la copia gialla della scheda di valutazione del rischio (Mod. Antonini A100- Scala di Norton). L’allegato 6 in originale va conservato in cartella cli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5F4-C484-482B-A772-F5172E7F5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9B2E0-16DE-4225-9134-F7BBE2F219D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8288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09480"/>
            <a:ext cx="7391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Si utilizza la Scala di Norton Plus per la valutazione del rischio di lesioni, tenuto conto 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Valori inferiori a 10 indicano un rischio ele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Valori tra 10 e 12 rischi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Valori tra 13 e 14 rischio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Valori superiori a 15 rischio nu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42640" y="3809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Per la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richiesta/sostituzione del cover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, è sufficiente la comunicazione telefonica e la registrazione nella documentazione inf.ca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699-E58B-4272-BC6F-A31E28B6F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CFE5-88B5-4823-BE22-AFF209E892F7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82880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29528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Il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ritiro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del presidio e/o del cover sporco deve avvenire entro 24 ore dalla richiesta telefo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1240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buClr>
                <a:srgbClr val="22130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9718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Il presidio viene consegnato o ritirato con la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bolla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che dovrà essere firmata dal Coordinatore o suo delegato, previo controllo dei dati (data e ora). Le copie della Bolla verranno prese in carico dalla Dit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221304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Le </a:t>
            </a:r>
            <a:r>
              <a:rPr b="0" lang="it-IT" sz="2400" spc="-1" strike="noStrike">
                <a:solidFill>
                  <a:srgbClr val="e931d7"/>
                </a:solidFill>
                <a:latin typeface="Times New Roman"/>
              </a:rPr>
              <a:t>non conformità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rilevati vanno segnalati per iscritto alla Direzione Medica e all’Economato di Pres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75D-8331-4093-B2B0-1684FC1085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EC8B4-DEFE-41DC-9980-69EC97D1E501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221304"/>
                </a:solidFill>
                <a:latin typeface="Times New Roman"/>
              </a:rPr>
              <a:t>La scelta del presidio: </a:t>
            </a:r>
            <a:br>
              <a:rPr sz="44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si basa sulla valutazione del rischio secondo la scala di Norton Plus, sulla stadiazione delle lesioni secondo la classificazione NPUAP e sul giudizio clinico. </a:t>
            </a:r>
            <a:br>
              <a:rPr sz="28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Infatti la scala di NortonP </a:t>
            </a:r>
            <a:br>
              <a:rPr sz="28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è solo un complemento </a:t>
            </a:r>
            <a:br>
              <a:rPr sz="28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orientativo alla </a:t>
            </a:r>
            <a:br>
              <a:rPr sz="28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valutazione clinica </a:t>
            </a:r>
            <a:br>
              <a:rPr sz="2800"/>
            </a:br>
            <a:r>
              <a:rPr b="1" i="1" lang="it-IT" sz="2800" spc="-1" strike="noStrike">
                <a:solidFill>
                  <a:srgbClr val="e931d7"/>
                </a:solidFill>
                <a:latin typeface="Times New Roman"/>
              </a:rPr>
              <a:t>e non uno strumento isolato.</a:t>
            </a:r>
            <a:r>
              <a:rPr b="0" lang="it-IT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3200400"/>
          <a:ext cx="28576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8576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CBA-AF62-4B45-9D55-2829CDA945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04D6-E8B5-45E6-BAF8-457412E8D636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e931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21304"/>
                </a:solidFill>
                <a:latin typeface="Times New Roman"/>
              </a:rPr>
              <a:t>I lotti aggiudicat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62320" cy="4114800"/>
          </a:xfrm>
          <a:prstGeom prst="rect">
            <a:avLst/>
          </a:prstGeom>
          <a:solidFill>
            <a:srgbClr val="30f6e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OTTO 1: Eurogenius –MedicAi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OTTO 2: Clinactiv BPC –Hill Ro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2320" y="17524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stema antidecubito per la prevenzione di lesioni in pz 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so risch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senza le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stema antidecubito per la prevenzione di lesioni in pz 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dio risch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/o per la terapia di lesioni da decubito 1°-2° st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957-7FB5-4CC7-A052-957813D667C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3149C-AA42-44FF-8820-EE2DFBB29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e931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21304"/>
                </a:solidFill>
                <a:latin typeface="Times New Roman"/>
              </a:rPr>
              <a:t>I lotti aggiudicat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62320" cy="4114800"/>
          </a:xfrm>
          <a:prstGeom prst="rect">
            <a:avLst/>
          </a:prstGeom>
          <a:solidFill>
            <a:srgbClr val="30f6e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OTTO 3: Clinactiv MCM –Hill Ro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OTTO 4: Enterprise e Nimbus –Ditta Medi H Art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stema antidecubito per la prevenzione di lesioni in pz 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to risch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e/o per la terapia di lesioni al 3°-4° st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stema letto – sedia cardiologica- per la prevenzione di lesioni in pz ad alto rischio e/o per la terapia di lesioni al 3°-4° stadio in persone difficilmente mobilizzabili per l’alta criticità e/o per patologie parti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z. Med. e Uff. Infem.co  -B: Radi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5B4-EB60-4422-99E5-71ADA5E3519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DDC22-EEAF-4873-B51E-42B6C2E4B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adice</cp:lastModifiedBy>
  <dcterms:modified xsi:type="dcterms:W3CDTF">2010-02-24T11:30:48Z</dcterms:modified>
  <cp:revision>20</cp:revision>
  <dc:subject/>
  <dc:title>Presentazione di PowerPoint</dc:title>
</cp:coreProperties>
</file>